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FFB-395D-487B-86E8-19775E3A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EED-410C-467B-8C37-34B9B64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777-1EA1-4616-833F-D366B611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801-4784-4BCF-9E88-61C1B1AF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CA61-BC15-4EFF-BD49-145B1D04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69E7-9854-4460-9768-F3023192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721D-1058-4F1E-BD66-1D81906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3262-5BAD-43D8-B26B-47A4E95A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42C-BB70-4422-92BD-0E9B61C1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5BF1-437B-4DAB-A44E-2E95976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1B4B-3EC4-4B18-8D0D-A217F62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1D4-B833-49B0-9058-8A0D7E1E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C438-720F-4D21-BDD9-18F5CEF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8FCC-6E56-44C1-87E3-A6F2C24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1A5C-9A2E-404F-AF0F-3F4D56C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8C09-5F21-492A-A2A2-5B868B66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FEEF-6A5A-4EE2-86BA-82F6068F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23F-7732-4CF1-9D34-61190D9B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392-F004-48AE-B1AA-8DCD3762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394-E31A-4721-AF1D-196C67E8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DF4-B1C1-4294-A2B3-2663754B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EC5-48D9-4400-AE24-9C213C3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608-E2E4-4D01-B45F-0AE731E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7F1-E46C-4EAB-851D-C75290A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588-4EE2-48FE-9DB2-FAA9D8622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CB8-411D-4E68-9BBD-48D8851B1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8"/>
          <a:stretch/>
        </p:blipFill>
        <p:spPr>
          <a:xfrm>
            <a:off x="838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9"/>
          <a:stretch/>
        </p:blipFill>
        <p:spPr>
          <a:xfrm>
            <a:off x="236232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0"/>
          <a:stretch/>
        </p:blipFill>
        <p:spPr>
          <a:xfrm>
            <a:off x="541008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1"/>
          <a:stretch/>
        </p:blipFill>
        <p:spPr>
          <a:xfrm>
            <a:off x="6934320" y="914400"/>
            <a:ext cx="152712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2"/>
          <a:stretch/>
        </p:blipFill>
        <p:spPr>
          <a:xfrm>
            <a:off x="3886200" y="914400"/>
            <a:ext cx="1527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89280" y="31687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the piece show, and why is it significant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182880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civil guard members and the milit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dramatic lighting and unintentional darkness due to varni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t to capture a moment rather than show a typical portra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4680" y="3168720"/>
            <a:ext cx="58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89280" y="3168720"/>
            <a:ext cx="58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ds of Honor, Diego Velazque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89280" y="3168720"/>
            <a:ext cx="60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56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3600" y="31687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45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 Philip IV of Sp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4680" y="316872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89280" y="3168720"/>
            <a:ext cx="588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ictorial Depth, Artist is featured in painting, intermediate values that resemble a pho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2520" y="3168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Mary Magdalen with Cand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216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2160" y="3168720"/>
            <a:ext cx="35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de la T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5040" y="316872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25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2160" y="3168720"/>
            <a:ext cx="25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ight Wat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3240" y="316872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it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89280" y="1752480"/>
            <a:ext cx="588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 la Tour always used a visible light sou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al of movement places a calm in the pai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ientific study of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4680" y="3168720"/>
            <a:ext cx="58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800" y="316872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avagg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02-04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95280" y="3168720"/>
            <a:ext cx="646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specific sacrament is this meant to illustr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143000" y="31687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ucharist, Christ’s body is being laid at the alt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800" y="3168720"/>
            <a:ext cx="33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4680" y="316872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85800" y="316872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nt to “naturalize” a religious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in modern ti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unidealized mode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3240" y="3168720"/>
            <a:ext cx="63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, what part are we looking 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3960" y="3168720"/>
            <a:ext cx="57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Peter’s Basilica, the faç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4320" y="316872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artist/architec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080" y="31687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d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3960" y="3168720"/>
            <a:ext cx="53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and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07-15, Baro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2880" y="316872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0720" y="316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e Paul 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800" y="316872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brand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4320" y="3168720"/>
            <a:ext cx="53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33520" y="16765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lects the church during the counter-re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d to work with an early central dome plan of 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ll towers were added 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2520" y="31687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64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5-17T16:24:28Z</dcterms:modified>
  <cp:revision>18</cp:revision>
  <dc:subject/>
  <dc:title>Jeopardy</dc:title>
</cp:coreProperties>
</file>